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B33-7903-49AC-8716-905A5E5F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E3F-B6E5-4A52-BD97-5BFAE71D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6E71-A7F5-4E03-9BD2-1AF070AF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9F8-0D41-485C-931C-237A769C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379-5C71-43D0-8C13-3C1A4D26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D57-6F05-4E35-B25E-2926961B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9D32-DC74-4E10-AA21-C4CB1F0D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932-595E-4054-9AA2-62718841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E99-B9EC-4445-8E1A-9F7DA0D2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202-0BF7-4426-8345-677340E3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B07-3C51-420B-9AFB-365618A0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508-759B-4364-92EA-E98EB80E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A957-CA6A-4127-90D0-7F340B6B7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440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440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440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4400" cy="50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4400" cy="50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4400" cy="50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4400" cy="5083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4:29:06Z</dcterms:created>
  <dc:creator>Min. da Educação</dc:creator>
  <dc:description/>
  <dc:language>en-US</dc:language>
  <cp:lastModifiedBy>Min. da Educação</cp:lastModifiedBy>
  <dcterms:modified xsi:type="dcterms:W3CDTF">2008-05-30T14:34:50Z</dcterms:modified>
  <cp:revision>4</cp:revision>
  <dc:subject/>
  <dc:title>Diapositivo 1</dc:title>
</cp:coreProperties>
</file>